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EF4-031E-4E83-B4DD-268F7F28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16E-C2ED-4002-B0D7-62616FF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3BC-08CE-4182-9578-662CCDD3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43B-B778-4C1B-A417-6D19E5D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1453B-9019-4A24-8E62-BD49586C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69B20-AF4B-41CD-A462-4FE8E9D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9BADA-ABED-484E-9D07-DBA2DCA3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41FC5-987A-4046-A7A3-486E16E2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DF1A5-F885-42F9-A3EB-AED538B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954F-22D6-4A04-A05F-DB92BA36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6477A-3AE9-45FE-976D-AA65CCB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BD0-D7FA-46C1-AB3C-228BBC8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9480A-2EF2-4545-802A-7D958F7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44CEC-3766-4488-A958-BE3018F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4CEE3-EA0B-44AB-BAA7-1CF8A044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2AD9A-298B-4A93-99D6-67FF39CC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9EAD1-F079-4CE6-9FB7-6B5FD446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6E9-8C06-4D84-A9F8-9FAF3B8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654-89FE-4433-89F5-EB53CFB5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AEE-379D-4CC0-A915-0B3D29C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979-3AEA-40D8-9B1A-74632C9C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9B0-62FA-450F-B085-9CC956C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C9B-0CE5-4208-B2CD-7C94ECF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0F5-F5B3-451E-976E-A3BC906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EE5-15D4-49CC-A3EA-FE81E6F2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1440" y="20520"/>
            <a:ext cx="9138960" cy="6858000"/>
            <a:chOff x="-1440" y="20520"/>
            <a:chExt cx="9138960" cy="6858000"/>
          </a:xfrm>
        </p:grpSpPr>
        <p:sp>
          <p:nvSpPr>
            <p:cNvPr id="62" name="Freeform 3"/>
            <p:cNvSpPr/>
            <p:nvPr/>
          </p:nvSpPr>
          <p:spPr>
            <a:xfrm>
              <a:off x="-1440" y="4897440"/>
              <a:ext cx="91389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1440" y="20520"/>
              <a:ext cx="91389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33960"/>
            <a:ext cx="7842960" cy="851040"/>
            <a:chOff x="0" y="6033960"/>
            <a:chExt cx="7842960" cy="851040"/>
          </a:xfrm>
        </p:grpSpPr>
        <p:sp>
          <p:nvSpPr>
            <p:cNvPr id="66" name="Freeform 7"/>
            <p:cNvSpPr/>
            <p:nvPr/>
          </p:nvSpPr>
          <p:spPr>
            <a:xfrm>
              <a:off x="2361600" y="6033960"/>
              <a:ext cx="51418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5600" y="6033960"/>
              <a:ext cx="3897360" cy="851040"/>
              <a:chOff x="3945600" y="6033960"/>
              <a:chExt cx="3897360" cy="85104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800" y="6045120"/>
                <a:ext cx="157716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836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888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84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560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33960"/>
              <a:ext cx="63100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D93-B8A8-44DA-8D26-4C096E892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842040" y="1876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47920" y="16765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小黄莺唱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20140418143159975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8c9646cb6e01a301be09e6a6"/>
          <p:cNvPicPr/>
          <p:nvPr/>
        </p:nvPicPr>
        <p:blipFill>
          <a:blip r:embed="rId2"/>
          <a:srcRect l="169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TextBox 4"/>
          <p:cNvSpPr/>
          <p:nvPr/>
        </p:nvSpPr>
        <p:spPr>
          <a:xfrm>
            <a:off x="457200" y="4795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416"/>
                </a:solidFill>
                <a:latin typeface="Arial"/>
              </a:rPr>
              <a:t>综合积累 拓展延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8c9646cb6e01a301be09e6a6"/>
          <p:cNvPicPr/>
          <p:nvPr/>
        </p:nvPicPr>
        <p:blipFill>
          <a:blip r:embed="rId1"/>
          <a:srcRect l="169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1" name="Group 3"/>
          <p:cNvGrpSpPr/>
          <p:nvPr/>
        </p:nvGrpSpPr>
        <p:grpSpPr>
          <a:xfrm>
            <a:off x="6084720" y="2398680"/>
            <a:ext cx="1452600" cy="1440000"/>
            <a:chOff x="6084720" y="2398680"/>
            <a:chExt cx="1452600" cy="1440000"/>
          </a:xfrm>
        </p:grpSpPr>
        <p:sp>
          <p:nvSpPr>
            <p:cNvPr id="172" name="Rectangle 4"/>
            <p:cNvSpPr/>
            <p:nvPr/>
          </p:nvSpPr>
          <p:spPr>
            <a:xfrm>
              <a:off x="6097320" y="2398680"/>
              <a:ext cx="1440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6818040" y="2398680"/>
              <a:ext cx="0" cy="1440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6084720" y="310680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1174680" y="4581360"/>
            <a:ext cx="1452600" cy="1440000"/>
            <a:chOff x="1174680" y="4581360"/>
            <a:chExt cx="1452600" cy="1440000"/>
          </a:xfrm>
        </p:grpSpPr>
        <p:sp>
          <p:nvSpPr>
            <p:cNvPr id="176" name="Rectangle 8"/>
            <p:cNvSpPr/>
            <p:nvPr/>
          </p:nvSpPr>
          <p:spPr>
            <a:xfrm>
              <a:off x="1187280" y="4581360"/>
              <a:ext cx="144000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1908000" y="45813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1174680" y="52894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3878280" y="2408400"/>
            <a:ext cx="1452600" cy="1439640"/>
            <a:chOff x="3878280" y="2408400"/>
            <a:chExt cx="1452600" cy="1439640"/>
          </a:xfrm>
        </p:grpSpPr>
        <p:sp>
          <p:nvSpPr>
            <p:cNvPr id="180" name="Rectangle 12"/>
            <p:cNvSpPr/>
            <p:nvPr/>
          </p:nvSpPr>
          <p:spPr>
            <a:xfrm>
              <a:off x="3890880" y="2408400"/>
              <a:ext cx="1440000" cy="1439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4611600" y="2408400"/>
              <a:ext cx="0" cy="143964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3878280" y="3116160"/>
              <a:ext cx="1440000" cy="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15"/>
          <p:cNvGrpSpPr/>
          <p:nvPr/>
        </p:nvGrpSpPr>
        <p:grpSpPr>
          <a:xfrm>
            <a:off x="1066680" y="2346480"/>
            <a:ext cx="1452600" cy="1439640"/>
            <a:chOff x="1066680" y="2346480"/>
            <a:chExt cx="1452600" cy="1439640"/>
          </a:xfrm>
        </p:grpSpPr>
        <p:sp>
          <p:nvSpPr>
            <p:cNvPr id="184" name="Rectangle 16"/>
            <p:cNvSpPr/>
            <p:nvPr/>
          </p:nvSpPr>
          <p:spPr>
            <a:xfrm>
              <a:off x="1079280" y="2346480"/>
              <a:ext cx="1440000" cy="14396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1800000" y="2346480"/>
              <a:ext cx="0" cy="143964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1066680" y="3054240"/>
              <a:ext cx="1440000" cy="0"/>
            </a:xfrm>
            <a:prstGeom prst="line">
              <a:avLst/>
            </a:prstGeom>
            <a:ln w="9360">
              <a:solidFill>
                <a:srgbClr val="8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Rectangle 19"/>
          <p:cNvSpPr/>
          <p:nvPr/>
        </p:nvSpPr>
        <p:spPr>
          <a:xfrm>
            <a:off x="1065240" y="2357280"/>
            <a:ext cx="14414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林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0"/>
          <p:cNvSpPr/>
          <p:nvPr/>
        </p:nvSpPr>
        <p:spPr>
          <a:xfrm>
            <a:off x="3852720" y="2341440"/>
            <a:ext cx="143856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你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1090440" y="44974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890880" y="4460760"/>
            <a:ext cx="1452600" cy="1440000"/>
            <a:chOff x="3890880" y="4460760"/>
            <a:chExt cx="1452600" cy="1440000"/>
          </a:xfrm>
        </p:grpSpPr>
        <p:sp>
          <p:nvSpPr>
            <p:cNvPr id="191" name="Rectangle 23"/>
            <p:cNvSpPr/>
            <p:nvPr/>
          </p:nvSpPr>
          <p:spPr>
            <a:xfrm>
              <a:off x="3903480" y="4460760"/>
              <a:ext cx="144000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>
              <a:off x="4624200" y="44607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3890880" y="51688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26"/>
          <p:cNvSpPr/>
          <p:nvPr/>
        </p:nvSpPr>
        <p:spPr>
          <a:xfrm>
            <a:off x="3911760" y="444816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习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27"/>
          <p:cNvSpPr txBox="1"/>
          <p:nvPr/>
        </p:nvSpPr>
        <p:spPr>
          <a:xfrm>
            <a:off x="2627280" y="620640"/>
            <a:ext cx="35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把 字 写 好 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6489720" y="2386080"/>
            <a:ext cx="1440000" cy="1439640"/>
            <a:chOff x="6489720" y="2386080"/>
            <a:chExt cx="1440000" cy="1439640"/>
          </a:xfrm>
        </p:grpSpPr>
        <p:sp>
          <p:nvSpPr>
            <p:cNvPr id="197" name="Rectangle 12"/>
            <p:cNvSpPr/>
            <p:nvPr/>
          </p:nvSpPr>
          <p:spPr>
            <a:xfrm>
              <a:off x="6489720" y="2386080"/>
              <a:ext cx="1440000" cy="14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7210440" y="23860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89720" y="31240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矩形 1"/>
          <p:cNvSpPr/>
          <p:nvPr/>
        </p:nvSpPr>
        <p:spPr>
          <a:xfrm>
            <a:off x="6725880" y="24084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哥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8c9646cb6e01a301be09e6a6"/>
          <p:cNvPicPr/>
          <p:nvPr/>
        </p:nvPicPr>
        <p:blipFill>
          <a:blip r:embed="rId1"/>
          <a:srcRect l="1692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401840" y="504720"/>
            <a:ext cx="6340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林（树林）（林木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（你好）（你的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哥（哥哥）（大哥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目（目标</a:t>
            </a:r>
            <a:r>
              <a:rPr b="0" lang="en-US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  (</a:t>
            </a: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目光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习（练习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4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752480" y="1905120"/>
            <a:ext cx="480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　注意区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目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日　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林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木　　　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1297080" y="304920"/>
            <a:ext cx="358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33520" y="1981080"/>
            <a:ext cx="80769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完成课本</a:t>
            </a:r>
            <a:r>
              <a:rPr b="0" lang="en-US" sz="4000" spc="-1" strike="noStrike">
                <a:solidFill>
                  <a:srgbClr val="463416"/>
                </a:solidFill>
                <a:latin typeface="Arial"/>
              </a:rPr>
              <a:t>137</a:t>
            </a: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页写一写，要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书写姿势正确，笔顺正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416"/>
                </a:solidFill>
                <a:latin typeface="Arial"/>
              </a:rPr>
              <a:t>书写美观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太阳3"/>
          <p:cNvPicPr/>
          <p:nvPr/>
        </p:nvPicPr>
        <p:blipFill>
          <a:blip r:embed="rId2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800280" y="137160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借助汉语拼音有感情的朗读课文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正确认读文中十二个生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了解课文内容 ，会讲故事，树立自信       心，不自卑，不怯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3520" y="1396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14400" y="13716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08040" y="1738440"/>
            <a:ext cx="8077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借助拼音正确流利地朗读课文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843120" y="457200"/>
            <a:ext cx="57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416"/>
                </a:solidFill>
                <a:latin typeface="Arial"/>
              </a:rPr>
              <a:t>初读课文，整体感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762120" y="21600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30440" y="1074600"/>
            <a:ext cx="89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读生字新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04920" y="1595520"/>
            <a:ext cx="89913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416"/>
                </a:solidFill>
                <a:latin typeface="Arial"/>
              </a:rPr>
              <a:t>chàng gē   shù lín   lián huā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唱  歌    树 林    联  欢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416"/>
                </a:solidFill>
                <a:latin typeface="Arial"/>
              </a:rPr>
              <a:t>yǒng gǎn  mù guāng  zài jiàn</a:t>
            </a:r>
            <a:r>
              <a:rPr b="1" lang="zh-CN" sz="4800" spc="-1" strike="noStrike">
                <a:solidFill>
                  <a:srgbClr val="463416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勇   敢   目  光      再 见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463416"/>
                </a:solidFill>
                <a:latin typeface="Arial"/>
              </a:rPr>
              <a:t>liàn xí   fēi cháng    nǐ  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练习    非  常      你 们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0"/>
            <a:ext cx="709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9640" y="836640"/>
            <a:ext cx="82803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看视频听录音，思考：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这篇课文讲了一件什么事情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0" y="0"/>
            <a:ext cx="370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1447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课文主要讲了（小黄莺）在（妈妈的鼓励）下，通过（自己的努力）（在联欢会上唱歌给大家听）的一件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0" y="0"/>
            <a:ext cx="709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168560" y="24098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小黄莺两次唱歌有什么不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学完课文，你明白了什么道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68560" y="533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精读课文，理解感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0" y="0"/>
            <a:ext cx="370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38080" y="16714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一次因为胆怯，小黄莺的演唱不太成功。第二次表演成功了。因为小黄莺听了妈妈的话，天天练习唱歌，越唱胆子越大，越唱越好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762120" y="4068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黄莺的故事告诉我们：遇到困难不要灰心，要对自己有信心，并通过努力去达到自己的目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90720" y="4348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小黄莺两次唱歌有什么不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3" descr="太阳3"/>
          <p:cNvPicPr/>
          <p:nvPr/>
        </p:nvPicPr>
        <p:blipFill>
          <a:blip r:embed="rId1"/>
          <a:srcRect l="0" t="0" r="0" b="486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0"/>
            <a:ext cx="370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38080" y="3808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463416"/>
                </a:solidFill>
                <a:latin typeface="楷体_GB2312"/>
                <a:ea typeface="楷体_GB2312"/>
              </a:rPr>
              <a:t>学完这篇课文我明白了我们要自信、不自卑、不怯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11284907_3"/>
          <p:cNvPicPr/>
          <p:nvPr/>
        </p:nvPicPr>
        <p:blipFill>
          <a:blip r:embed="rId2"/>
          <a:stretch/>
        </p:blipFill>
        <p:spPr>
          <a:xfrm>
            <a:off x="1600200" y="3200400"/>
            <a:ext cx="4191120" cy="3092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5800" y="-3808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学完课文，你明白了什么道理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01:33:51Z</dcterms:created>
  <dc:creator/>
  <dc:description/>
  <cp:keywords/>
  <dc:language>en-US</dc:language>
  <cp:lastModifiedBy>dell</cp:lastModifiedBy>
  <dcterms:modified xsi:type="dcterms:W3CDTF">2015-12-31T15:27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